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42377"/>
        <c:axId val="61476881"/>
      </c:barChart>
      <c:catAx>
        <c:axId val="80142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76881"/>
        <c:crosses val="autoZero"/>
        <c:auto val="1"/>
        <c:lblAlgn val="ctr"/>
        <c:lblOffset val="100"/>
        <c:noMultiLvlLbl val="0"/>
      </c:catAx>
      <c:valAx>
        <c:axId val="61476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42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4B2-D364-40B2-9D67-0717FA6F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66C-98CB-402E-9248-C40B80CF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F56-706E-414B-9AE3-C8098DF7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C29-9036-4D83-9E7A-A74CD1EB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641-B97C-4ED6-B8E4-11CB399F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CA2-B027-4E3B-A8A6-DC0D48E2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4CC-4C77-4094-8495-10AAF95C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B56-D25D-4DEF-A122-0E092E8E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EAF-1C1C-42EA-ABE3-B3FE6C24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A59-4338-40E0-B110-F14BF09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D80-AEB6-48F4-BCB5-53A055B4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577-5CCE-48A5-B3D8-52B2049F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CD468-02CC-4A7C-BBEC-EDC05BCBB1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