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05934"/>
        <c:axId val="38288673"/>
      </c:barChart>
      <c:catAx>
        <c:axId val="96505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88673"/>
        <c:crosses val="autoZero"/>
        <c:auto val="1"/>
        <c:lblAlgn val="ctr"/>
        <c:lblOffset val="100"/>
        <c:noMultiLvlLbl val="0"/>
      </c:catAx>
      <c:valAx>
        <c:axId val="38288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05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535-1EFE-4AC6-B40C-F9CAF0FE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7EF-4D0E-4138-9271-B0239DFA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1DD-FDF2-4832-8DA7-C17D5B23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5BF-5CE6-4F7D-879E-70EA62AA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6DE-1CDD-4904-8FE6-8D576FD1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F82-2FC3-46D0-9A66-F55379A4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E69-9B5E-4010-95B9-91CBF543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EB9-A985-4D07-979E-65B93A60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ABB-79F3-4005-ACDA-E598155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927-CB49-4C85-8069-C553E71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96F-227A-4650-AF2F-493CFC85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8A7-10BF-4DE0-83D5-AC1A2C2F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B116E-0CFF-4AB0-8F4D-3760CFC7F9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