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17068"/>
        <c:axId val="24394240"/>
      </c:barChart>
      <c:catAx>
        <c:axId val="40817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94240"/>
        <c:crosses val="autoZero"/>
        <c:auto val="1"/>
        <c:lblAlgn val="ctr"/>
        <c:lblOffset val="100"/>
        <c:noMultiLvlLbl val="0"/>
      </c:catAx>
      <c:valAx>
        <c:axId val="24394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17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AC6-4280-4281-8601-27223B49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754-AC8C-4318-842A-BE927B8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5AD-7FE4-4F20-8749-FF819676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181-6338-4350-90BB-8B191AC2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AA2-D3EE-42C1-97D4-52A356B2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581-440B-4168-AE16-A38EBE95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86A-5793-4647-A6DB-BA2129F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BEB-837C-4A75-80D0-E725D9A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550-5E20-472D-9664-610FAF1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561-9B55-4477-99DA-39B91C79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A7D-F4F8-41C0-9CD5-E0B4DC89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23B-B908-4F35-8126-776CFBF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32634-258D-41EF-9E94-AC5AA94E36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