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1908"/>
        <c:axId val="92587861"/>
      </c:barChart>
      <c:catAx>
        <c:axId val="68531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87861"/>
        <c:crosses val="autoZero"/>
        <c:auto val="1"/>
        <c:lblAlgn val="ctr"/>
        <c:lblOffset val="100"/>
        <c:noMultiLvlLbl val="0"/>
      </c:catAx>
      <c:valAx>
        <c:axId val="92587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1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00D-0D95-4665-88CB-58D1178E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BFC-1FCF-4DA0-9232-F423ABC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96E-DA9E-4986-B819-7769482C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9A-5EAA-437A-9F5F-5CE19D63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D62-EA34-4B1C-A00E-108A71EA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D06-1A50-42AC-945B-4DAB252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963-351D-497E-97CD-73BF41A6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006-9998-4871-BDF6-5EE4E36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AFB-5019-43E1-B855-A9216C8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25F-1FC5-4EE9-B3AC-956E546E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5DF-3CFF-407E-9854-53B2ACF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1F-5CB8-4E24-8011-8ABE686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DE33E-F809-4AD4-8F21-163514F41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