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04283"/>
        <c:axId val="56465348"/>
      </c:barChart>
      <c:catAx>
        <c:axId val="75104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65348"/>
        <c:crosses val="autoZero"/>
        <c:auto val="1"/>
        <c:lblAlgn val="ctr"/>
        <c:lblOffset val="100"/>
        <c:noMultiLvlLbl val="0"/>
      </c:catAx>
      <c:valAx>
        <c:axId val="56465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4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4AE-A432-457B-A289-E7E30D05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630-BE50-49AB-B567-143F8747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04E-65BC-40EF-A325-C8CD370C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2FE-B1EF-44C3-BEDF-35977BC1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A4C-386E-4DCD-A52A-4BA046D7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796-3A43-4B7C-BFFD-00056AD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C11-57B9-4C8F-9386-F0B86998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526-EB5C-49C8-98F5-D3B40D0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C6F-2C57-439D-A7C6-4DB4C74D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F69-F459-4AC3-A709-CC08C7A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DB5-782C-47F4-B54D-4BEAAEE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BC9-A28C-4359-98BC-A18E5F4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62EBA-8C61-4981-93D8-712AAE71D4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