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98849"/>
        <c:axId val="70873943"/>
      </c:barChart>
      <c:catAx>
        <c:axId val="80998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73943"/>
        <c:crosses val="autoZero"/>
        <c:auto val="1"/>
        <c:lblAlgn val="ctr"/>
        <c:lblOffset val="100"/>
        <c:noMultiLvlLbl val="0"/>
      </c:catAx>
      <c:valAx>
        <c:axId val="70873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98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919-D4E8-4583-938E-E8A25B8C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E55-EA1F-411D-A15C-43D732FD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E46-0934-45FE-A1E7-ABDBF644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F1B-FBBD-4D00-861C-4DBF46D7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82F-1201-4093-BD75-8BE370F7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B52-D216-4FDA-9576-C4C89172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8CB-18D3-46BD-AF8D-AB1ED870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D86-53FA-432F-A570-02E959F1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4B1-4726-4C12-BC9F-A4CC4923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3D4-4F1C-440E-AF88-BAB809A8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76C-5691-41F4-8A1F-702CCBC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635-685A-4C2B-B581-69F4B298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B10E1-FA17-46FC-8C43-66FDACAB4A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