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556302"/>
        <c:axId val="58056729"/>
      </c:barChart>
      <c:catAx>
        <c:axId val="785563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056729"/>
        <c:crosses val="autoZero"/>
        <c:auto val="1"/>
        <c:lblAlgn val="ctr"/>
        <c:lblOffset val="100"/>
        <c:noMultiLvlLbl val="0"/>
      </c:catAx>
      <c:valAx>
        <c:axId val="580567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5563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34FD-D2C7-4E75-AD04-EBE3F9D7E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7553-D40D-405A-B5E8-8CB27BE14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21B7-1BEF-4CD0-9828-17597588B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7D3B-956A-457C-9C38-28BC5CCA2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466E-5A3A-4838-9C2B-77824B2D0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7179-DBF2-4FD9-B7AD-D7AD59CB5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A16B-6F75-4398-B8FB-7159F91E0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A694-D26E-4B54-9E80-FF15091FF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9CC9-B1F9-442C-94AF-D85AA5643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B953-9A97-40A0-85CE-7F6CBCD6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3F0B-850E-493E-9FEA-010C3C6F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FA96-1763-46AA-8541-415F44C7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9D479F-FD1B-426D-9A70-136E1ACC7BE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