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43214"/>
        <c:axId val="58306551"/>
      </c:barChart>
      <c:catAx>
        <c:axId val="85843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6551"/>
        <c:crosses val="autoZero"/>
        <c:auto val="1"/>
        <c:lblAlgn val="ctr"/>
        <c:lblOffset val="100"/>
        <c:noMultiLvlLbl val="0"/>
      </c:catAx>
      <c:valAx>
        <c:axId val="58306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43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3CE-9A41-4770-B318-2819B5F7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160-A488-4154-A974-0643766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81B-4CC5-40B4-BC75-C83C7D49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1B3-AF62-4BFD-8E04-8A3B3877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A61-7C63-41EE-AFF6-4765E0D0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D9A-C256-4F99-9BF5-6D65848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7A2-59CE-4F19-A80F-87E14A2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691-0F9C-4FC1-B282-EE294AF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C1C-D812-4A59-A9A7-BC25568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C89-1B38-409A-AE93-DDC1A316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C0F-1EFD-4FB0-A05E-49F8997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B3C-9F80-45DB-8AC4-C79E85F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65ACF-3228-44F2-B9B0-548D24C597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