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14909"/>
        <c:axId val="13537182"/>
      </c:barChart>
      <c:catAx>
        <c:axId val="42714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37182"/>
        <c:crosses val="autoZero"/>
        <c:auto val="1"/>
        <c:lblAlgn val="ctr"/>
        <c:lblOffset val="100"/>
        <c:noMultiLvlLbl val="0"/>
      </c:catAx>
      <c:valAx>
        <c:axId val="13537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14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093-2036-40D9-9095-8CC97E5A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89E-2EC6-4D0E-A845-F082095D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E32-D0B2-4E1E-8F30-58B80C02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96A-37B6-4E4A-A31E-DF6812C5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5E4-4182-4B6A-86F8-AE1A3488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6C9-B5B0-4849-AB5A-93E68918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F3F-B548-4131-963E-37CA3B8A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433-26A6-43A3-88BE-C852E1A6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C7D-B53F-4741-8430-1CD95E55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5A0-5EE9-4D4E-9EE9-77C6D00F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FD4-86A9-4360-B162-64354ABE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83A-D4F8-4678-8819-BD4E7BF7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2923A-915D-48B3-AF1A-07D8F89BCA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