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247739"/>
        <c:axId val="5692541"/>
      </c:barChart>
      <c:catAx>
        <c:axId val="982477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2541"/>
        <c:crosses val="autoZero"/>
        <c:auto val="1"/>
        <c:lblAlgn val="ctr"/>
        <c:lblOffset val="100"/>
        <c:noMultiLvlLbl val="0"/>
      </c:catAx>
      <c:valAx>
        <c:axId val="56925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2477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2529-E56C-4B70-B198-7DB5442D4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7B20-2EBC-405F-A9C6-1F229D22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FE55-945C-4C82-9350-068BA2C79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2927-2F10-41C0-A88C-12C51F1FC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AE17-1C91-4589-B0AA-19D6A6F6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791B-17CB-442B-99DF-899A741C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C1A8-9E3F-4D24-9F8D-5F4B0C5C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E59E-0528-43B3-97C1-46E60BA2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3CCF-F040-439B-980F-C70B54EA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4CEA-A61E-4789-BB56-1EA46F6A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7019-A058-4989-8FD3-61C6E3EE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364E-38E2-4FAE-BF97-648A44C7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FAEED-00DF-4D40-BE8C-062ACF6CB6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