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76500"/>
        <c:axId val="8118380"/>
      </c:barChart>
      <c:catAx>
        <c:axId val="87676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8380"/>
        <c:crosses val="autoZero"/>
        <c:auto val="1"/>
        <c:lblAlgn val="ctr"/>
        <c:lblOffset val="100"/>
        <c:noMultiLvlLbl val="0"/>
      </c:catAx>
      <c:valAx>
        <c:axId val="8118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76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B800-791C-40E7-ADFF-38B0A4CA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2C8-3F2E-4A09-9FC8-3F50401C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ADEC-DFDE-43FF-9123-53F1F92F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D97-D8FA-4751-BA2F-59BF789A5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7AF-EC8C-400F-BA0D-75FB0D24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66A6-1E5F-4F53-8676-C9A04F80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B47-9D50-45D9-BB55-BACBFC35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9F8-22FB-4B55-8886-90209C5A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BF1-3A9C-4D96-A2AE-1F0D9B5D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5EF-D984-4E30-804F-E227D64A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9CC0-BE93-4EF2-ACCB-3CBA46E8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A45-CAB7-4450-B5EE-BCBAA430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C1C9A-3A31-4F9E-AC53-D10FA8259C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