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81915"/>
        <c:axId val="72407271"/>
      </c:barChart>
      <c:catAx>
        <c:axId val="10181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07271"/>
        <c:crosses val="autoZero"/>
        <c:auto val="1"/>
        <c:lblAlgn val="ctr"/>
        <c:lblOffset val="100"/>
        <c:noMultiLvlLbl val="0"/>
      </c:catAx>
      <c:valAx>
        <c:axId val="72407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81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312-E9A7-4116-ADC0-BFC79289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DE1-67CE-43A9-B9C0-E8E51D0A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410-E2C3-4912-96EC-1B1C8886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BF4-C243-496E-BABC-0759BAD5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5CE-AEE7-4294-B8E0-B5526F4A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5ED-0B51-46D0-AA09-2696BAFA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069-83C8-4613-85B8-9F190A6E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FEF-3339-42F3-93C3-0EED1C0A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B81-9832-4402-816C-11CD46C6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AC8-2C77-456A-B69A-5910E375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C52-7D47-49D2-B67B-2AD54889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295-A19A-4F3A-960A-4EDC51F5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58994-21FF-455E-836B-52CD3650F8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