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36964"/>
        <c:axId val="88530198"/>
      </c:barChart>
      <c:catAx>
        <c:axId val="58636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30198"/>
        <c:crosses val="autoZero"/>
        <c:auto val="1"/>
        <c:lblAlgn val="ctr"/>
        <c:lblOffset val="100"/>
        <c:noMultiLvlLbl val="0"/>
      </c:catAx>
      <c:valAx>
        <c:axId val="88530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36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C42-CF94-4859-AA4D-08D254C5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B02-35C3-4873-A3FF-F56BEBB2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78F-4364-41E4-9D82-2EBEC597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C3F-7D1F-41F5-A204-315B666C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89F-B0ED-49ED-8D62-D8C26AF1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4D6-E38E-404F-8381-8FE96341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52D-D5BF-4CD8-AF93-B8EFBE8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64B-CBBA-444A-BF6C-B4ABCDD4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D99-4B4F-441F-934F-B50B6075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54F-B47B-4CA6-A569-812EA3E0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3CB-2BD9-4550-B023-53C5CEB1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862-BFBD-4726-BE7D-767D723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B7060-5591-4729-ACF3-6A78955FD3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