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61889"/>
        <c:axId val="89032765"/>
      </c:barChart>
      <c:catAx>
        <c:axId val="6056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32765"/>
        <c:crosses val="autoZero"/>
        <c:auto val="1"/>
        <c:lblAlgn val="ctr"/>
        <c:lblOffset val="100"/>
        <c:noMultiLvlLbl val="0"/>
      </c:catAx>
      <c:valAx>
        <c:axId val="89032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0EF-A897-4E99-A2BF-013ADCE3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900-6EE8-4867-B0C7-68530C0A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A47-B320-4117-9872-F09D60F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80B-4A0D-42F4-94E7-17175584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5B6-C7F8-49DD-A416-61C43C7B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37-99B2-4C38-84D5-A5A3E0B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A71-2B0E-427C-8791-66F4D47B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565-2A7E-47C5-B365-825DD18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07B-3763-469E-BB56-7B150D7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6FC-0084-437D-B640-D4517F37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6FC-9585-4420-8588-1B77050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3CC-D22F-45A4-80B2-BC62D77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2E72F-906A-4613-BB39-E4BD46550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