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999"/>
        <c:axId val="32216105"/>
      </c:barChart>
      <c:catAx>
        <c:axId val="4959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16105"/>
        <c:crosses val="autoZero"/>
        <c:auto val="1"/>
        <c:lblAlgn val="ctr"/>
        <c:lblOffset val="100"/>
        <c:noMultiLvlLbl val="0"/>
      </c:catAx>
      <c:valAx>
        <c:axId val="32216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9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385-07F2-4365-A6B6-393BA57E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21D-8A51-4410-8D86-B2F5B967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A9B6-CF91-403C-B277-5E2640A8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4B6C-7AF9-4DC8-9339-3498EE5C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A83-E66E-4FBD-86EE-9858DB5E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BBF-B151-457B-B404-866008CD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FC18-C3B2-4098-A2F9-08E53B4F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528-5C4B-438E-BE10-13D92241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C40-FCCF-47D0-881B-CC7C517F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E8E0-588E-428E-B8BE-B920EDEB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5FE-39AC-453B-8A88-778BEC55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7E7-FDB1-44BE-AABF-C8343CAC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1F0D1-7FF9-4201-95CE-8D1237630E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