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56031"/>
        <c:axId val="86260598"/>
      </c:barChart>
      <c:catAx>
        <c:axId val="67356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60598"/>
        <c:crosses val="autoZero"/>
        <c:auto val="1"/>
        <c:lblAlgn val="ctr"/>
        <c:lblOffset val="100"/>
        <c:noMultiLvlLbl val="0"/>
      </c:catAx>
      <c:valAx>
        <c:axId val="86260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6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F33-C121-465C-BF91-3BDE262C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013-6FCD-4A01-884C-1C3858C1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A35-4091-4427-A61E-2ECCA99D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DF8-CF40-4098-A7B6-FA7191B5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599-490B-4A5B-976E-A3AD983B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9D2-855F-49BC-8752-3A268681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9CA-8753-4844-9693-C7CC119F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81A-1020-4CEA-BCB3-1CB17326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8CB-0A4E-4420-84A0-A99F3D4D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EA2-9FD7-44D0-8F13-3D438F05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60C-630B-4CFE-B015-EF08639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57F-D42C-4A37-B498-0F642E93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E9FE7-2A03-4FD0-AFE8-B0982830E1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