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62047"/>
        <c:axId val="94642784"/>
      </c:barChart>
      <c:catAx>
        <c:axId val="11162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42784"/>
        <c:crosses val="autoZero"/>
        <c:auto val="1"/>
        <c:lblAlgn val="ctr"/>
        <c:lblOffset val="100"/>
        <c:noMultiLvlLbl val="0"/>
      </c:catAx>
      <c:valAx>
        <c:axId val="94642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62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6AF-1793-456C-A433-FECF0263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4A4-A576-4804-ADDB-FC9F213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B2F-D6B8-41FA-8D70-3B8698BD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A3F-3732-4CDC-8534-1DD0FA7C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94A-F056-4B4B-8239-13DF331E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078-427A-4471-9029-FBEEE87C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6F6-98D9-46D9-B5E5-68563A63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394-2B82-423B-AED7-D72B6B52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9A3-8B72-4EA6-B4F8-E53C817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8F9-37EB-4890-8A2C-C1667A9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108-CF24-415F-971D-3DB1540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4F3-72A4-4296-A476-059C56F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0F184-57CA-4C22-8886-1A54EE0931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